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616-D430-40E6-895E-33BD8730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76E-481B-4631-BFCF-A23C2D3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D97-6676-42D5-8FC8-EF206988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649-2097-4D8A-830B-283C6ACD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7C7-B862-4AFA-939C-F1E9C9F1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C49-F67E-487A-8702-0B5C507B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B9F-25CD-4B8A-9880-40F239B1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7E6-B836-4B1F-B7BF-6A2E3958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99F-22A0-46FB-B1F8-E2B075D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533-698B-4231-8F4F-125BE5E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16C-5F46-41AA-A7C5-22B31A5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49F-C518-4F6A-A7E0-0105D9C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B05D-1843-4A1F-BE1E-7377D7FE9D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NEU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66480" y="5398920"/>
            <a:ext cx="59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arcía Pastor, P Sobrino Garc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Ictus, Servicio de Neu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General Universitario Gregorio Marañón,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ódigo ictus intrahospita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dicos de Urgencias, Neurólogo de gu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r que se trata de un ictus y no de otra enfermedad que produzca síntomas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r rápidamente el subtipo de ictu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arto o hemorragia cereb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ecer la localización  y extensión del daño cereb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ar identificar la causa más probable del i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recer el tratamie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ás adecu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l ictus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das generales (tanto para ictus isquémicos como hemorragias cereb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er una adecuad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xigen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dra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valorar función deglutoria, colocación de sonda nasogástrica si es necesario. Asegurar una correcta nutr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de Presión Arteri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e suele elevar en el ictus agudo. Se administran hipotensores sólo en determinadas situ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ucem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ifras elevadas de azúcar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eor pronóstico del ictus. Corregir la hiperglucemia de forma prec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e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mpeora la evolución del paciente con ictus. Tratamiento precoz (antitérmicos y antibióticos si precis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ilaxis de la trombosis venosa profund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movilización precoz, Heparina de bajo peso, medias compresiv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tamiento de complic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eurológicas /No neur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l ictus isquémic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s específicos: tratamientos recanalizadores en fase ag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ombolisis intravenos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alteplasa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tamientos intraarter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mediante cateter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ombolisis intra-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rvencionismo neurovascular (dispositivos de extracción mecánica del tromb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aniectomía descompre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tiagregantes plaquetarios  o Anticoagulant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gún la causa de infarto cereb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l ictus isquémic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ombolisis intravenos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alteplasa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a en ictus isquémicos de menos de 4,5 horas de evolu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ntajas: tratamiento accesible y escaso retraso en su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nvenientes: tasa de recanalización moderada, criterios de exclus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limitan su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fectos secundarios: hemorragias (en ocasiones muy gra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l ictus isquémic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tamientos intraarterial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(mediante cateteris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mbolisis intra-ar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vencionismo neurovascular (dispositivos de extracción mecánica del tro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uede emplearse en ictus isquémicos de hasta 8 horas de evolución. En algunos casos seleccionados: ictus de mayor du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: elevada tasa de recanalización, mayor ventana teó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onvenientes: poco accesible, retraso en su administ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fectos secundarios: rotura de la arteria, disecciones, hemorragia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 de rescate: cuando la trombolisis intravenosa no ha sido efica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l ictus isquémic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aniectomía descompre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puede emplear en caso de “ictus maligno” (ictus con importante edema cerebral que produce aumento de la presión dentro del cráne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ompresión quirúrgica: “se abre la cabeza” en el lado donde está localizado el ict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cción dramática de la mor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algunos casos, pueden asociar importantes secuelas fun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do en pacientes menores de 60 años e ictus de menos de 48 horas de evolu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tamiento de la hemorragia cerebral agu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das generales en todos los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es posible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r la cau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(p.e. alteraciones de coagul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miento quirúrg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drenaje del hematoma en casos seleccionados, clipaje de malformaciones/ aneuris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écnicas endovascular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embolización de malformaciones/ aneuris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renaje ventricular,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hidrocefalia (dilatación de los ventrícul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pruebas deben realizarse a un pacientes con ict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a fase aguda (Puertas de urg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prueba de imagen cerebral: TC craneal o RM cereb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analítica de san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radiografía del tó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electrocardi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mbién (no obligatorias): angioTC o angioRM, tecnicas de imagen multimodal, ultraso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uebas que deben realizarse en el ictus agudo en urg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eba de imagen cerebra (TC o RM cereb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óstico diferencial con otras enfermedades que no son i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ión entre infarto y hemorragia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arto cerebral: no se aprecian cambios en las primeras horas,  excep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gnos indirec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 algunos ca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emorragia intracerebral"/>
          <p:cNvPicPr/>
          <p:nvPr/>
        </p:nvPicPr>
        <p:blipFill>
          <a:blip r:embed="rId1"/>
          <a:stretch/>
        </p:blipFill>
        <p:spPr>
          <a:xfrm>
            <a:off x="971640" y="3500280"/>
            <a:ext cx="1861920" cy="17352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6"/>
          <p:cNvGrpSpPr/>
          <p:nvPr/>
        </p:nvGrpSpPr>
        <p:grpSpPr>
          <a:xfrm>
            <a:off x="4151160" y="3500280"/>
            <a:ext cx="1789200" cy="1716120"/>
            <a:chOff x="4151160" y="3500280"/>
            <a:chExt cx="1789200" cy="1716120"/>
          </a:xfrm>
        </p:grpSpPr>
        <p:pic>
          <p:nvPicPr>
            <p:cNvPr id="85" name="Picture 7" descr="ACM HIPERDENSA"/>
            <p:cNvPicPr/>
            <p:nvPr/>
          </p:nvPicPr>
          <p:blipFill>
            <a:blip r:embed="rId2"/>
            <a:stretch/>
          </p:blipFill>
          <p:spPr>
            <a:xfrm>
              <a:off x="4151160" y="3500280"/>
              <a:ext cx="17892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8"/>
            <p:cNvSpPr/>
            <p:nvPr/>
          </p:nvSpPr>
          <p:spPr>
            <a:xfrm>
              <a:off x="5466960" y="3500280"/>
              <a:ext cx="416520" cy="19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6743880" y="3500280"/>
            <a:ext cx="1788840" cy="1716120"/>
            <a:chOff x="6743880" y="3500280"/>
            <a:chExt cx="1788840" cy="1716120"/>
          </a:xfrm>
        </p:grpSpPr>
        <p:pic>
          <p:nvPicPr>
            <p:cNvPr id="88" name="Picture 10" descr="ACM INFARTO"/>
            <p:cNvPicPr/>
            <p:nvPr/>
          </p:nvPicPr>
          <p:blipFill>
            <a:blip r:embed="rId3"/>
            <a:stretch/>
          </p:blipFill>
          <p:spPr>
            <a:xfrm>
              <a:off x="6743880" y="3500280"/>
              <a:ext cx="17888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11"/>
            <p:cNvSpPr/>
            <p:nvPr/>
          </p:nvSpPr>
          <p:spPr>
            <a:xfrm>
              <a:off x="8115840" y="3500280"/>
              <a:ext cx="416520" cy="19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1113480" y="52498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rragia cereb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135680" y="522936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rto 3 h de evol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632280" y="5229360"/>
            <a:ext cx="197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rto 5 días de evol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6012000" y="43657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uebas que deben realizarse en el ictus agudo en urg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ítica de sang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rminar valores de glucosa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artar alteraciones ión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ón renal y hep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tar alteraciones de la coa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dentificar marcadores de inf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radiografía del tór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artar infección respiratoria o alteraciones cardia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lectrocardiogr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ción de arritmias cardiacas (fibrilación auri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tección de lesiones miocardic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EJO EN LA FASE AGUDA DEL IC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pruebas deben realizarse a un pacientes con ict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el ingreso hospital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ítica: Colesterol, estudios inmunológico, estudio de coagulación, Serologías, hormonas, homocistein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uroimagen cereb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C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MN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 de la circulación cerebral (troncos supra-aórticos y arterias cerebrales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ltrasonidos: dúplex o dop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gio TAC o Angio-resonancia magn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teriografía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udio cardiológic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ocardiograma: transtorácico / Transesofá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lter E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tivos del ingreso hospitalario del paciente con i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gnostic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modo preciso el tipo de ictus, la localización y la caus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uevas pruebas complement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recer e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ás idóneo a cada situación con el fin de minimizar la lesión cerebral y las secuelas fun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enir y  tratar adecuadamente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ica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se producen en la fase aguda del ic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ar de forma precoz un programa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tamiento rehabilit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iciar las pautas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ificación de los factores de riesg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 prevenir nuevos ict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dad de I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úmero limitado de c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gilancia semi-intensiva de pacientes con ictus agu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ocolos escritos de manejo de pacientes con ictus agudo y de sus com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stema de trabajo muy estruct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enfermería, rehabilitadores, trabajadores sociales, neurólogos, etc.)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trenad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el manejo de este tipo de pa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dades de Ict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uce de forma significativa la mortalidad por i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uce las secuelas y la discapacidad a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duce la estancia media hospit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benefician todo tipo de ic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que isquémico trans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T: Ictus que produce síntomas neurológicos transitorios: duran unos minutos (habitualmente 10-15 minutos hasta una ho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mo significado patológico que un ictus establecido (se produce una isquemia en una zona del cereb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aque isquémico transi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so” de que algo no está bien en el sistema vascular cereb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do riesgo de sufrir un ictus en los días siguientes: hasta el 5% de pacientes con AIT pueden sufrir un ictus en los 7 días sigu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 paciente con AIT debe ser estudiado de forma urgente, y se debe instaurar un tratamiento preventivo adecuado que reduzca el riesgo de nuevos ic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 un AIT se debe actuar de la misma forma que ante un ictus, a pesar de que los síntomas hayan remit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alas de valoración en el ic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las neurológicas: miden el déficit producido por la lesión cereb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IH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Canadi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las fun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modificada de Ran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de Bart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la Hunt &amp; H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neurológicas en el i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HSS: la más empleada para medir la gravedad del déficit clí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0 a 42 pu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no existe déficit clí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a 8: ictus l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a 15: ictus mode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o más ictus sev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Canadiense: muy sencilla, de 10 a 1,5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funcionales en el i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Mide la repercusión funcional: la afectación de las actividades de la vida diaria tras haber sufrido un ictu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cala Rankin: de 0 a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0: Sin secue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6: Fallecimiento del pac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cala Barthel: de 0 a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dependiente: 100 puntos (95 si está en silla de rued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iente leve: &gt; 60 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encia moderada: 40-55 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encia grave: 20-35 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pendencia total: &lt;20 pu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funcionales en el i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cala Rankin: de 0 a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: Sin secue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: Persisten secuelas leves que no afectan a la vida d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: Incapaz de realizar algunas de sus actividades previas, pero no afectan a la vida diaria de forma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: Secuelas que limitan la subsistencia de forma autón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: Síntomas que impiden la vida de forma autónoma, sin necesidad de ayuda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: Totalmente de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: Fallecimiento como consecuencia del ic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funcionales en el ic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ala de Barthel: de 0 a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igna puntuaciones de 0, 5 o 10 a diversas actividades funcionales de la vida di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v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sti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regl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o del ret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slado sillón/c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amb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ir y bajar es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erebro es un órgano que precisa un aporte constante de oxígeno y nutrientes a través de la sangre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ndo se produce un fallo en el aporte de sangre arterial en una zona del cerebro se produce un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quem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“falta de rieg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Hunt &amp; H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4000" y="1413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ifica la severidad de las hemorragias subaracnoideas no trau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rrelaciona con los resultados del tratamiento quirúr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o 1: Asintomático y consciente, dolor de cabeza y rigidez de nuca le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o 2: Dolor de cabeza y rigidez de nuca moderada sin déficit neurológico más allá de paresia de los nervios crane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o 3: Somnolencia, confusión mental y leve déficit neurológico f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o 4: Estupor y hemiparesia moderada o sev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o 5: Coma y postura descere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mpo es cer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erebro es muy sensible a la isqu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año cerebral producido por un ictus depende en gran medida d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ura la isqu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mpo es cer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362800" cy="4835520"/>
        </p:xfrm>
        <a:graphic>
          <a:graphicData uri="http://schemas.openxmlformats.org/drawingml/2006/table">
            <a:tbl>
              <a:tblPr/>
              <a:tblGrid>
                <a:gridCol w="1666800"/>
                <a:gridCol w="2087640"/>
                <a:gridCol w="2232000"/>
                <a:gridCol w="2376360"/>
              </a:tblGrid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onas perd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iones neuronales perd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ejecimiento cereb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un ict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 b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 tr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1 hora de isqu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 b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un minuto de isqu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 m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b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 sem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un segundo de isqu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 mill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 ho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mpo es cer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92360" y="1600200"/>
            <a:ext cx="5759280" cy="604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tamiento del ictus agu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427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260360" y="2679840"/>
            <a:ext cx="6551640" cy="60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rtar la duración de la isqu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42764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763640" y="3789360"/>
            <a:ext cx="5759640" cy="604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r el daño cere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905760" y="5392800"/>
            <a:ext cx="77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tamiento precoz del ictu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ación de la atención del ictus ag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mpo es cer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acientes con ictus agudo deben ser atendido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em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un hospital, y preferentemente por un neurólo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tar recibir atención en niveles intermedios (Centro de Salud, Médico a domicilio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l hospi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rea de Urgenci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tus: Emergencia médica (como un infarto de miocar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 hospitalar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dad de I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 de Neu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a de Medicina Interna/Geria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empo es cere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rganización de la asistencia urgente al ictus: Código ic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sta en marcha de actuaciones encaminadas a reducir al máximo las demoras en la atención de pacientes con ictus para poder ofrecer tratamientos en las primeras horas del ic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ódigo ictus extrahospita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ódigo ictus intrahospital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ódigo ictus extrahospital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2, SAM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ción del paciente con ictus en el domici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viso al hospital de dest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lado del paciente cuanto antes al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0:06:12Z</dcterms:created>
  <dc:creator>ugph</dc:creator>
  <dc:description/>
  <dc:language>en-US</dc:language>
  <cp:lastModifiedBy>ugph</cp:lastModifiedBy>
  <dcterms:modified xsi:type="dcterms:W3CDTF">2012-04-16T17:03:08Z</dcterms:modified>
  <cp:revision>37</cp:revision>
  <dc:subject/>
  <dc:title>EDUCANEURO</dc:title>
</cp:coreProperties>
</file>